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FBB-E0A8-4C2D-98A9-E6B98187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2B8-1174-4967-94EC-A71F236D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A69-198A-45E4-96C7-A38D752D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867-58A9-4311-9916-429FAE88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3D2-5D66-41A3-AF4F-5CBF6E7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9E2-B245-42A3-9816-F594898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581-5DFD-45A2-BB43-0ECC881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55E-18F8-4E59-B98C-C13C82E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D2A-D53D-42A4-9012-2B723DF8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E2A-94D8-4D93-8435-C7B1B9B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94B-9C1A-49F5-B9A5-EA911C7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8FA-8E52-4201-8148-4CB4639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B210-58B2-4239-8A86-B2D1087B94F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Systemtest Europe</a:t>
            </a:r>
            <a:br>
              <a:rPr sz="4400"/>
            </a:br>
            <a:r>
              <a:rPr b="1" lang="zh-TW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Wacker/Fri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MG PH RD 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5715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87280" y="1413000"/>
            <a:ext cx="3240" cy="43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9890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62864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90792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628640"/>
            <a:ext cx="1076400" cy="730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9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7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5800" y="571356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37240" y="40640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6600" y="290196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3720" y="3508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16880" y="40766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1325520"/>
            <a:ext cx="0" cy="39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2003400"/>
            <a:ext cx="39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80320" y="28638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80320" y="3483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3560" y="408636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3720" y="2374920"/>
            <a:ext cx="13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65480" y="2534760"/>
            <a:ext cx="156600" cy="2158920"/>
            <a:chOff x="2265480" y="2534760"/>
            <a:chExt cx="156600" cy="2158920"/>
          </a:xfrm>
        </p:grpSpPr>
        <p:sp>
          <p:nvSpPr>
            <p:cNvPr id="83" name=""/>
            <p:cNvSpPr/>
            <p:nvPr/>
          </p:nvSpPr>
          <p:spPr>
            <a:xfrm flipV="1">
              <a:off x="2266560" y="25347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7720" y="28857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74480" y="34923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5480" y="409248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4480" y="4692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16560" y="2538000"/>
            <a:ext cx="156600" cy="2158920"/>
            <a:chOff x="4516560" y="2538000"/>
            <a:chExt cx="156600" cy="2158920"/>
          </a:xfrm>
        </p:grpSpPr>
        <p:sp>
          <p:nvSpPr>
            <p:cNvPr id="89" name=""/>
            <p:cNvSpPr/>
            <p:nvPr/>
          </p:nvSpPr>
          <p:spPr>
            <a:xfrm flipV="1">
              <a:off x="4517640" y="253800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8800" y="28890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5560" y="3495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6560" y="409572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5560" y="469584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95520" y="2541240"/>
            <a:ext cx="157320" cy="2158920"/>
            <a:chOff x="3395520" y="2541240"/>
            <a:chExt cx="157320" cy="2158920"/>
          </a:xfrm>
        </p:grpSpPr>
        <p:sp>
          <p:nvSpPr>
            <p:cNvPr id="95" name=""/>
            <p:cNvSpPr/>
            <p:nvPr/>
          </p:nvSpPr>
          <p:spPr>
            <a:xfrm flipV="1">
              <a:off x="3396960" y="254124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8120" y="28922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04880" y="34988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5520" y="40989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04880" y="469908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634000" y="2228760"/>
            <a:ext cx="0" cy="312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520" y="157176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76356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6520" y="32130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rko Virk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7440" y="2627280"/>
            <a:ext cx="9320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Sylvia Schellberg-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300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Holger Abrat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263376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Gennaro Evangel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62760" y="1968480"/>
            <a:ext cx="941400" cy="5176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trin Thiels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7600" y="32004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Erik 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26128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Leonhard Wai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2097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Zbyszek Jarzab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0280" y="38163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rl-Heinz Sad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32194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an Kiw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263376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ee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3480" y="38131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Ralf Wied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024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irk Fä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4160" y="44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Oliver Wage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86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076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04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2400" y="5578560"/>
            <a:ext cx="1008000" cy="541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8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5000" y="529128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500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69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84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772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9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4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4600" y="1514520"/>
            <a:ext cx="1076040" cy="730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716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Sch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5440" y="381168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chmitz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2533680"/>
            <a:ext cx="335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8926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9480" y="34988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37360" y="52912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4000" y="320976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ascal Reven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26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eter Hennig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183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7160" y="2533680"/>
            <a:ext cx="2057400" cy="1782720"/>
            <a:chOff x="6707160" y="2533680"/>
            <a:chExt cx="2057400" cy="1782720"/>
          </a:xfrm>
        </p:grpSpPr>
        <p:sp>
          <p:nvSpPr>
            <p:cNvPr id="158" name=""/>
            <p:cNvSpPr/>
            <p:nvPr/>
          </p:nvSpPr>
          <p:spPr>
            <a:xfrm>
              <a:off x="7861320" y="320040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Steen H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61320" y="2604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Kim Ankera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6640" y="3801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Flemming Nygaard-S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775640" y="2852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778880" y="2541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7160" y="2533680"/>
              <a:ext cx="1062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5635800" y="25509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15080" y="34304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arco Schul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360" y="54936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880" y="23976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System Test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ystem Test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esponsibility for all product projects and results (cost, time, quality) and reporting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coordination, development and approvals of complete system test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system test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Lead of all project leaders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5320" y="1890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MOK &amp;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74422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Modem KLf and M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 system test and support to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 with network 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s,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6240" y="189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K &amp; S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268280"/>
            <a:ext cx="7442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KLf and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of PC-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 of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93280" y="189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W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ort for operator acceptanc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9880" y="189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Operator Acceptance (M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 Approvals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ite support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 to G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64840" y="189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268280"/>
            <a:ext cx="744228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tion Management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and decide about certification/conformity assessment/regulatory requirements strategy including related standardization in accordance with project requirement and ST line manag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Invest process and strategy (including related maintenance costs, formerly GK) and provide proposals for decision for head of ST about investments according to project- and business- targ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contract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NDA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, define and release ST relevant processes in alignment with project </a:t>
            </a:r>
            <a:r>
              <a:rPr b="1" lang="en-GB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line management and other discipline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wackerk</cp:lastModifiedBy>
  <dcterms:modified xsi:type="dcterms:W3CDTF">2006-05-15T12:22:11Z</dcterms:modified>
  <cp:revision>129</cp:revision>
  <dc:subject/>
  <dc:title>PowerPoint 簡報</dc:title>
</cp:coreProperties>
</file>